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C72-350F-4368-9260-E6473E95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AB1-A6D8-4CDC-AC25-2E79AA25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AA2-9E71-47BF-8938-DA8D777F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331-D261-4EE9-BA98-61E7B1E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1E7-2870-4357-A331-FA360DF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7E9-0B92-4EDE-B362-B31FDF9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05F-4353-478F-8B79-DCB72836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2F5-23D9-4F7C-8442-6974C61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4E0-2661-430D-8E88-700516F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6E9-118E-4491-8851-A8D1D53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FFE-E8A4-4C7C-9EB7-57DDB69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867-4BE9-4C70-A12E-2DB65E8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99D-3879-4C89-846D-109564901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 describ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operties of solid shap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arallel lines, faces and edg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6 square faces all the same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2438280"/>
            <a:ext cx="3047760" cy="3048120"/>
          </a:xfrm>
          <a:prstGeom prst="cube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6 rectangular 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914400" y="1981080"/>
            <a:ext cx="2438280" cy="4343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erfectly round three-dimensional shape, like a ball. It has only one curved 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6" descr="MCED00214_0000[1]"/>
          <p:cNvPicPr/>
          <p:nvPr/>
        </p:nvPicPr>
        <p:blipFill>
          <a:blip r:embed="rId1"/>
          <a:stretch/>
        </p:blipFill>
        <p:spPr>
          <a:xfrm>
            <a:off x="1042920" y="2276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that is half a 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35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36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684360" y="2997360"/>
            <a:ext cx="3671640" cy="1726920"/>
            <a:chOff x="684360" y="2997360"/>
            <a:chExt cx="3671640" cy="1726920"/>
          </a:xfrm>
        </p:grpSpPr>
        <p:pic>
          <p:nvPicPr>
            <p:cNvPr id="141" name="Picture 1037" descr="MCSL00222_0000[1]"/>
            <p:cNvPicPr/>
            <p:nvPr/>
          </p:nvPicPr>
          <p:blipFill>
            <a:blip r:embed="rId1"/>
            <a:srcRect l="0" t="0" r="18601" b="61220"/>
            <a:stretch/>
          </p:blipFill>
          <p:spPr>
            <a:xfrm>
              <a:off x="684360" y="2997360"/>
              <a:ext cx="3671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Line 1039"/>
            <p:cNvSpPr/>
            <p:nvPr/>
          </p:nvSpPr>
          <p:spPr>
            <a:xfrm>
              <a:off x="755640" y="4724280"/>
              <a:ext cx="352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 dimensional shape with a circle at its base and a pointed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9" descr="MCED00213_0000[1]"/>
          <p:cNvPicPr/>
          <p:nvPr/>
        </p:nvPicPr>
        <p:blipFill>
          <a:blip r:embed="rId1"/>
          <a:stretch/>
        </p:blipFill>
        <p:spPr>
          <a:xfrm>
            <a:off x="755640" y="1700280"/>
            <a:ext cx="333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ith circular ends of equ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219320" y="1676520"/>
            <a:ext cx="2361960" cy="449568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yram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a polygon for its base and triangular faces which meet at on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724280" y="4572000"/>
            <a:ext cx="39625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 Triangular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quare 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tagonal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457200" y="2362320"/>
            <a:ext cx="3885840" cy="2990520"/>
            <a:chOff x="457200" y="2362320"/>
            <a:chExt cx="3885840" cy="2990520"/>
          </a:xfrm>
        </p:grpSpPr>
        <p:graphicFrame>
          <p:nvGraphicFramePr>
            <p:cNvPr id="157" name="Object 2048"/>
            <p:cNvGraphicFramePr/>
            <p:nvPr/>
          </p:nvGraphicFramePr>
          <p:xfrm>
            <a:off x="457200" y="2362320"/>
            <a:ext cx="3885840" cy="299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204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362320"/>
                      <a:ext cx="3885840" cy="29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2049"/>
            <p:cNvGraphicFramePr/>
            <p:nvPr/>
          </p:nvGraphicFramePr>
          <p:xfrm>
            <a:off x="1924920" y="2566440"/>
            <a:ext cx="895680" cy="11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204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4920" y="2566440"/>
                      <a:ext cx="89568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quare base pyram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Object 0"/>
          <p:cNvGraphicFramePr/>
          <p:nvPr/>
        </p:nvGraphicFramePr>
        <p:xfrm>
          <a:off x="990720" y="2666880"/>
          <a:ext cx="300024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300024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3"/>
          <p:cNvSpPr/>
          <p:nvPr/>
        </p:nvSpPr>
        <p:spPr>
          <a:xfrm>
            <a:off x="4800600" y="388620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724280" y="26668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r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 dimensional shape that has the same cross-section all along its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838080" y="1828800"/>
            <a:ext cx="3429000" cy="4114800"/>
            <a:chOff x="838080" y="1828800"/>
            <a:chExt cx="3429000" cy="4114800"/>
          </a:xfrm>
        </p:grpSpPr>
        <p:sp>
          <p:nvSpPr>
            <p:cNvPr id="169" name="AutoShape 5"/>
            <p:cNvSpPr/>
            <p:nvPr/>
          </p:nvSpPr>
          <p:spPr>
            <a:xfrm>
              <a:off x="838080" y="1828800"/>
              <a:ext cx="1524240" cy="2819520"/>
            </a:xfrm>
            <a:prstGeom prst="can">
              <a:avLst>
                <a:gd name="adj" fmla="val 25000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2666880" y="2971800"/>
              <a:ext cx="1600200" cy="29718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Written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2590920" y="2209680"/>
            <a:ext cx="29718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562720" y="4267080"/>
            <a:ext cx="281916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quare based-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mis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80880" y="2438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ERPENDICULAR 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04920" y="4724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ERPENDICULAR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2971800" y="1676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ARALLEL 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867280" y="167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ARALLEL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2590920" y="426708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5562720" y="2209680"/>
            <a:ext cx="281916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Written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590920" y="2209680"/>
            <a:ext cx="29718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quare-based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562720" y="4267080"/>
            <a:ext cx="281916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80880" y="2438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ERPENDICULAR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04920" y="4724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ERPENDICULAR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971800" y="1676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ARALLEL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867280" y="167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ARALLEL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590920" y="426708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562720" y="2209680"/>
            <a:ext cx="281916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 2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E SH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6840" y="175248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dimensional shapes that have sides made from straight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  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990720" y="2209680"/>
            <a:ext cx="1371600" cy="1524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590920" y="1981080"/>
            <a:ext cx="838080" cy="2438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990720" y="3809880"/>
            <a:ext cx="2666880" cy="18288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581280" y="2971800"/>
            <a:ext cx="1143000" cy="2133720"/>
          </a:xfrm>
          <a:prstGeom prst="parallelogram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two-dimensional shapes with four straight s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ez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90720" y="2362320"/>
            <a:ext cx="1371600" cy="1218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838080" y="3962520"/>
            <a:ext cx="990720" cy="1523880"/>
          </a:xfrm>
          <a:prstGeom prst="parallelogram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743200" y="3886200"/>
            <a:ext cx="1295280" cy="1828800"/>
          </a:xfrm>
          <a:prstGeom prst="pi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2895480" y="1981080"/>
            <a:ext cx="1295640" cy="1752840"/>
          </a:xfrm>
          <a:prstGeom prst="diamond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our sided two-dimensional shape with two pairs of parallel sides that meet at right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2819520"/>
            <a:ext cx="396216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two shorter sides of equal length and two longer sides of equal leng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 flipH="1" flipV="1">
            <a:off x="1600200" y="2895120"/>
            <a:ext cx="175248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1600200" y="16765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2666880" y="16765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1"/>
          <p:cNvSpPr/>
          <p:nvPr/>
        </p:nvSpPr>
        <p:spPr>
          <a:xfrm flipH="1">
            <a:off x="3352320" y="2666880"/>
            <a:ext cx="83844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four sided shape with opposite sides that are parallel and all the sides are the sam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228600" y="2438280"/>
            <a:ext cx="4419720" cy="3048120"/>
          </a:xfrm>
          <a:prstGeom prst="parallelogram">
            <a:avLst>
              <a:gd name="adj" fmla="val 3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Trapez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four sides.One pair of sides is parallel with one side longer than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029"/>
          <p:cNvSpPr/>
          <p:nvPr/>
        </p:nvSpPr>
        <p:spPr>
          <a:xfrm>
            <a:off x="990720" y="1981080"/>
            <a:ext cx="3276360" cy="21337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030"/>
          <p:cNvSpPr/>
          <p:nvPr/>
        </p:nvSpPr>
        <p:spPr>
          <a:xfrm>
            <a:off x="304920" y="4800600"/>
            <a:ext cx="4419360" cy="762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five straight sides and five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04920" y="2819520"/>
            <a:ext cx="2438280" cy="3657600"/>
          </a:xfrm>
          <a:prstGeom prst="pentagon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2286000" y="1676520"/>
            <a:ext cx="1981080" cy="1828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6 straight sides and 6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920" y="1752480"/>
            <a:ext cx="4419360" cy="2514600"/>
          </a:xfrm>
          <a:prstGeom prst="hexagon">
            <a:avLst>
              <a:gd name="adj" fmla="val 43937"/>
              <a:gd name="vf" fmla="val 11547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600200" y="4648320"/>
            <a:ext cx="1676520" cy="1600200"/>
          </a:xfrm>
          <a:prstGeom prst="hexagon">
            <a:avLst>
              <a:gd name="adj" fmla="val 26192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wo-dimensional Shapes (2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shapes are flat and can only be drawn 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have two dimensions – length and 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are sometimes called plane sh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2120" y="2438280"/>
            <a:ext cx="3047760" cy="3733920"/>
            <a:chOff x="762120" y="2438280"/>
            <a:chExt cx="3047760" cy="3733920"/>
          </a:xfrm>
        </p:grpSpPr>
        <p:sp>
          <p:nvSpPr>
            <p:cNvPr id="46" name="AutoShape 5"/>
            <p:cNvSpPr/>
            <p:nvPr/>
          </p:nvSpPr>
          <p:spPr>
            <a:xfrm>
              <a:off x="990720" y="2666880"/>
              <a:ext cx="1066680" cy="990720"/>
            </a:xfrm>
            <a:prstGeom prst="octagon">
              <a:avLst>
                <a:gd name="adj" fmla="val 29287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914400" y="4038480"/>
              <a:ext cx="9907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2133720" y="3962520"/>
              <a:ext cx="121896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2743200" y="2438280"/>
              <a:ext cx="990720" cy="1219320"/>
            </a:xfrm>
            <a:prstGeom prst="plus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9"/>
            <p:cNvSpPr/>
            <p:nvPr/>
          </p:nvSpPr>
          <p:spPr>
            <a:xfrm>
              <a:off x="762120" y="5334120"/>
              <a:ext cx="1295280" cy="8380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2362320" y="5257800"/>
              <a:ext cx="1447560" cy="914400"/>
            </a:xfrm>
            <a:prstGeom prst="parallelogram">
              <a:avLst>
                <a:gd name="adj" fmla="val 3957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Oct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8 straight sides and 8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85800" y="2286000"/>
            <a:ext cx="34290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62120" y="3429000"/>
            <a:ext cx="2971800" cy="297180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call a shape with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7 Sid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9 Sid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0 Si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8960" y="4495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round flat two-dimensional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914400" y="2209680"/>
            <a:ext cx="3505320" cy="3505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dimensional shape with 4 sides of the same length and 4 90°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990720" y="2438280"/>
            <a:ext cx="3276360" cy="31244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dimensional shape with three straight sides and three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name 4 different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609480" y="2286000"/>
            <a:ext cx="3429000" cy="3733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ree-dimensional Shapes (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shapes are solid or ho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have three dimensions – length, width and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914400" y="1752480"/>
            <a:ext cx="2895480" cy="4648320"/>
            <a:chOff x="914400" y="1752480"/>
            <a:chExt cx="2895480" cy="4648320"/>
          </a:xfrm>
        </p:grpSpPr>
        <p:sp>
          <p:nvSpPr>
            <p:cNvPr id="55" name="Rectangle 5"/>
            <p:cNvSpPr/>
            <p:nvPr/>
          </p:nvSpPr>
          <p:spPr>
            <a:xfrm>
              <a:off x="914400" y="3733920"/>
              <a:ext cx="1066680" cy="99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>
              <a:off x="1066680" y="5334120"/>
              <a:ext cx="990720" cy="1066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2286000" y="5029200"/>
              <a:ext cx="1219320" cy="114300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2514600" y="3581280"/>
              <a:ext cx="1295280" cy="1067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>
              <a:off x="990720" y="1905120"/>
              <a:ext cx="1066680" cy="1143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>
              <a:off x="2514600" y="1752480"/>
              <a:ext cx="1143000" cy="13716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Fa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 of a shape that is flat.(Or cur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A cube has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143000" y="2514600"/>
            <a:ext cx="2666880" cy="29718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743200" y="2209680"/>
            <a:ext cx="160020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line where two faces m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A cube has 12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219320" y="3048120"/>
            <a:ext cx="2819160" cy="2514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6"/>
          <p:cNvSpPr/>
          <p:nvPr/>
        </p:nvSpPr>
        <p:spPr>
          <a:xfrm>
            <a:off x="914400" y="3429000"/>
            <a:ext cx="26668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ertex (Verti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lace where three or more edges m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yramid has 4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1523880" y="1752480"/>
            <a:ext cx="2895840" cy="2971800"/>
          </a:xfrm>
          <a:prstGeom prst="triangle">
            <a:avLst>
              <a:gd name="adj" fmla="val 5000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38"/>
          <p:cNvGrpSpPr/>
          <p:nvPr/>
        </p:nvGrpSpPr>
        <p:grpSpPr>
          <a:xfrm>
            <a:off x="228600" y="1600200"/>
            <a:ext cx="4648320" cy="4343400"/>
            <a:chOff x="228600" y="1600200"/>
            <a:chExt cx="4648320" cy="4343400"/>
          </a:xfrm>
        </p:grpSpPr>
        <p:sp>
          <p:nvSpPr>
            <p:cNvPr id="73" name="Oval 1030"/>
            <p:cNvSpPr/>
            <p:nvPr/>
          </p:nvSpPr>
          <p:spPr>
            <a:xfrm>
              <a:off x="2514600" y="160020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031"/>
            <p:cNvSpPr/>
            <p:nvPr/>
          </p:nvSpPr>
          <p:spPr>
            <a:xfrm>
              <a:off x="3962520" y="449568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1032"/>
            <p:cNvSpPr/>
            <p:nvPr/>
          </p:nvSpPr>
          <p:spPr>
            <a:xfrm>
              <a:off x="1219320" y="449568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037"/>
            <p:cNvSpPr/>
            <p:nvPr/>
          </p:nvSpPr>
          <p:spPr>
            <a:xfrm>
              <a:off x="228600" y="556272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type of lines stay the same distance apart for  their whole length. They do not need to be straight or the sam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533520" y="1905120"/>
            <a:ext cx="3429000" cy="1295280"/>
            <a:chOff x="533520" y="1905120"/>
            <a:chExt cx="3429000" cy="1295280"/>
          </a:xfrm>
        </p:grpSpPr>
        <p:sp>
          <p:nvSpPr>
            <p:cNvPr id="80" name="Line 5"/>
            <p:cNvSpPr/>
            <p:nvPr/>
          </p:nvSpPr>
          <p:spPr>
            <a:xfrm>
              <a:off x="7621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685800" y="2133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9"/>
            <p:cNvSpPr/>
            <p:nvPr/>
          </p:nvSpPr>
          <p:spPr>
            <a:xfrm>
              <a:off x="533520" y="2514600"/>
              <a:ext cx="2743200" cy="457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533520" y="2743200"/>
              <a:ext cx="2743200" cy="457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39"/>
          <p:cNvGrpSpPr/>
          <p:nvPr/>
        </p:nvGrpSpPr>
        <p:grpSpPr>
          <a:xfrm>
            <a:off x="453960" y="3733920"/>
            <a:ext cx="4498920" cy="2361960"/>
            <a:chOff x="453960" y="3733920"/>
            <a:chExt cx="4498920" cy="2361960"/>
          </a:xfrm>
        </p:grpSpPr>
        <p:grpSp>
          <p:nvGrpSpPr>
            <p:cNvPr id="85" name="Group 14"/>
            <p:cNvGrpSpPr/>
            <p:nvPr/>
          </p:nvGrpSpPr>
          <p:grpSpPr>
            <a:xfrm>
              <a:off x="457200" y="3733920"/>
              <a:ext cx="4495680" cy="2361960"/>
              <a:chOff x="457200" y="3733920"/>
              <a:chExt cx="4495680" cy="2361960"/>
            </a:xfrm>
          </p:grpSpPr>
          <p:sp>
            <p:nvSpPr>
              <p:cNvPr id="86" name="AutoShape 11"/>
              <p:cNvSpPr/>
              <p:nvPr/>
            </p:nvSpPr>
            <p:spPr>
              <a:xfrm>
                <a:off x="457200" y="3962520"/>
                <a:ext cx="762120" cy="2133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12"/>
              <p:cNvSpPr/>
              <p:nvPr/>
            </p:nvSpPr>
            <p:spPr>
              <a:xfrm>
                <a:off x="1905120" y="3733920"/>
                <a:ext cx="1447560" cy="137160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13"/>
              <p:cNvSpPr/>
              <p:nvPr/>
            </p:nvSpPr>
            <p:spPr>
              <a:xfrm>
                <a:off x="1905120" y="5410080"/>
                <a:ext cx="3047760" cy="685800"/>
              </a:xfrm>
              <a:prstGeom prst="parallelogram">
                <a:avLst>
                  <a:gd name="adj" fmla="val 111102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18"/>
            <p:cNvSpPr/>
            <p:nvPr/>
          </p:nvSpPr>
          <p:spPr>
            <a:xfrm>
              <a:off x="35053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3200400" y="6095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2514600" y="3733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2590920" y="5105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>
              <a:off x="609480" y="6095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>
              <a:off x="8380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27"/>
            <p:cNvGrpSpPr/>
            <p:nvPr/>
          </p:nvGrpSpPr>
          <p:grpSpPr>
            <a:xfrm>
              <a:off x="453960" y="4952520"/>
              <a:ext cx="6480" cy="304920"/>
              <a:chOff x="453960" y="4952520"/>
              <a:chExt cx="6480" cy="304920"/>
            </a:xfrm>
          </p:grpSpPr>
          <p:sp>
            <p:nvSpPr>
              <p:cNvPr id="96" name="Line 28"/>
              <p:cNvSpPr/>
              <p:nvPr/>
            </p:nvSpPr>
            <p:spPr>
              <a:xfrm flipV="1">
                <a:off x="453960" y="5105160"/>
                <a:ext cx="3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 flipV="1">
                <a:off x="457200" y="4952520"/>
                <a:ext cx="3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30"/>
            <p:cNvGrpSpPr/>
            <p:nvPr/>
          </p:nvGrpSpPr>
          <p:grpSpPr>
            <a:xfrm>
              <a:off x="1216080" y="4952520"/>
              <a:ext cx="6480" cy="304920"/>
              <a:chOff x="1216080" y="4952520"/>
              <a:chExt cx="6480" cy="304920"/>
            </a:xfrm>
          </p:grpSpPr>
          <p:sp>
            <p:nvSpPr>
              <p:cNvPr id="99" name="Line 31"/>
              <p:cNvSpPr/>
              <p:nvPr/>
            </p:nvSpPr>
            <p:spPr>
              <a:xfrm flipV="1">
                <a:off x="1216080" y="5105160"/>
                <a:ext cx="3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2"/>
              <p:cNvSpPr/>
              <p:nvPr/>
            </p:nvSpPr>
            <p:spPr>
              <a:xfrm flipV="1">
                <a:off x="1219320" y="4952520"/>
                <a:ext cx="3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4"/>
            <p:cNvGrpSpPr/>
            <p:nvPr/>
          </p:nvGrpSpPr>
          <p:grpSpPr>
            <a:xfrm>
              <a:off x="2269800" y="5483520"/>
              <a:ext cx="335880" cy="310680"/>
              <a:chOff x="2269800" y="5483520"/>
              <a:chExt cx="335880" cy="310680"/>
            </a:xfrm>
          </p:grpSpPr>
          <p:sp>
            <p:nvSpPr>
              <p:cNvPr id="102" name="Line 24"/>
              <p:cNvSpPr/>
              <p:nvPr/>
            </p:nvSpPr>
            <p:spPr>
              <a:xfrm flipV="1">
                <a:off x="2269800" y="5690520"/>
                <a:ext cx="111960" cy="10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 flipV="1">
                <a:off x="2437920" y="5587200"/>
                <a:ext cx="5580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 flipV="1">
                <a:off x="2549520" y="5483520"/>
                <a:ext cx="561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35"/>
            <p:cNvGrpSpPr/>
            <p:nvPr/>
          </p:nvGrpSpPr>
          <p:grpSpPr>
            <a:xfrm>
              <a:off x="4403520" y="5559840"/>
              <a:ext cx="335880" cy="310680"/>
              <a:chOff x="4403520" y="5559840"/>
              <a:chExt cx="335880" cy="310680"/>
            </a:xfrm>
          </p:grpSpPr>
          <p:sp>
            <p:nvSpPr>
              <p:cNvPr id="106" name="Line 36"/>
              <p:cNvSpPr/>
              <p:nvPr/>
            </p:nvSpPr>
            <p:spPr>
              <a:xfrm flipV="1">
                <a:off x="4403520" y="5766840"/>
                <a:ext cx="111960" cy="10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7"/>
              <p:cNvSpPr/>
              <p:nvPr/>
            </p:nvSpPr>
            <p:spPr>
              <a:xfrm flipV="1">
                <a:off x="4571640" y="5663520"/>
                <a:ext cx="5580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8"/>
              <p:cNvSpPr/>
              <p:nvPr/>
            </p:nvSpPr>
            <p:spPr>
              <a:xfrm flipV="1">
                <a:off x="4683240" y="5559840"/>
                <a:ext cx="561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ine that is drawn in a right angle to another lin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solid shapes edges could be at a right angle to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es could also be at right angles to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990720" y="1600200"/>
            <a:ext cx="3657600" cy="2362320"/>
            <a:chOff x="990720" y="1600200"/>
            <a:chExt cx="3657600" cy="2362320"/>
          </a:xfrm>
        </p:grpSpPr>
        <p:sp>
          <p:nvSpPr>
            <p:cNvPr id="112" name="Line 5"/>
            <p:cNvSpPr/>
            <p:nvPr/>
          </p:nvSpPr>
          <p:spPr>
            <a:xfrm>
              <a:off x="2590920" y="1600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990720" y="39625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838080" y="4191120"/>
            <a:ext cx="3429000" cy="2209680"/>
            <a:chOff x="838080" y="4191120"/>
            <a:chExt cx="3429000" cy="2209680"/>
          </a:xfrm>
        </p:grpSpPr>
        <p:sp>
          <p:nvSpPr>
            <p:cNvPr id="115" name="AutoShape 8"/>
            <p:cNvSpPr/>
            <p:nvPr/>
          </p:nvSpPr>
          <p:spPr>
            <a:xfrm>
              <a:off x="838080" y="4267080"/>
              <a:ext cx="1143000" cy="12193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1523880" y="5562720"/>
              <a:ext cx="2133720" cy="83808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2666880" y="4191120"/>
              <a:ext cx="1600200" cy="1218960"/>
            </a:xfrm>
            <a:prstGeom prst="triangle">
              <a:avLst>
                <a:gd name="adj" fmla="val 5489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2590920" y="3352680"/>
            <a:ext cx="609480" cy="609840"/>
            <a:chOff x="2590920" y="3352680"/>
            <a:chExt cx="609480" cy="609840"/>
          </a:xfrm>
        </p:grpSpPr>
        <p:sp>
          <p:nvSpPr>
            <p:cNvPr id="119" name="Line 13"/>
            <p:cNvSpPr/>
            <p:nvPr/>
          </p:nvSpPr>
          <p:spPr>
            <a:xfrm>
              <a:off x="2590920" y="33526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>
              <a:off x="3200400" y="3352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3:49:42Z</dcterms:created>
  <dc:creator> </dc:creator>
  <dc:description/>
  <dc:language>en-US</dc:language>
  <cp:lastModifiedBy>aroy</cp:lastModifiedBy>
  <dcterms:modified xsi:type="dcterms:W3CDTF">2011-03-16T10:55:10Z</dcterms:modified>
  <cp:revision>20</cp:revision>
  <dc:subject/>
  <dc:title>Two-dimensional Shapes (2D)</dc:title>
</cp:coreProperties>
</file>